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83D-A62B-4274-9A56-AB4E9735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3F2-67B0-43A7-BF9C-7DBB95B4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0A7-05F2-4ABF-85EC-FED6E96B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2BD-E111-4C6B-BE36-0AEDC3C8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848-850C-4666-AF16-9516F1C1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ADD-83C4-4819-AD27-E045387F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364-72E5-4669-A599-3D3285F9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160-C407-4D09-B757-BFC96F7D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172-ACE2-4CC1-A355-A6BC9714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022-1E6A-47E5-B524-DC03ECE8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F86-1741-468F-BBC7-697F8548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384-B8E0-45F9-A4A5-6769E255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8884-AD3E-4B4A-A07A-8B1018884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shi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10280" y="5029200"/>
            <a:ext cx="1981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v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8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.#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914400"/>
            <a:ext cx="5715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-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vity-Fight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llipo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3581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4343400"/>
            <a:ext cx="4191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Night walk, March 11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4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Weyuan S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 found that Glycyrrhize uralensis (licorice roo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 said that patents should have one after breakfast and before bed for ten days stra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 was also a native to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well i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t it be better if the medicine was a lollip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aef1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Cavity-Fighting Lollip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vention is sugar-free and orange flav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cavity fighting h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 ride of tooth dec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hts bacteria that decays te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find it at certain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d54b"/>
            </a:gs>
            <a:gs pos="100000">
              <a:srgbClr val="e1f10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Shi"/>
          <p:cNvPicPr/>
          <p:nvPr/>
        </p:nvPicPr>
        <p:blipFill>
          <a:blip r:embed="rId1"/>
          <a:srcRect l="51622" t="0" r="9680" b="0"/>
          <a:stretch/>
        </p:blipFill>
        <p:spPr>
          <a:xfrm>
            <a:off x="4191120" y="205740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Shi"/>
          <p:cNvPicPr/>
          <p:nvPr/>
        </p:nvPicPr>
        <p:blipFill>
          <a:blip r:embed="rId2"/>
          <a:srcRect l="4955" t="31393" r="64525" b="21587"/>
          <a:stretch/>
        </p:blipFill>
        <p:spPr>
          <a:xfrm>
            <a:off x="990720" y="2362320"/>
            <a:ext cx="2819160" cy="1339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5486400"/>
            <a:ext cx="685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vity-Fighting Lollip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h 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sh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6858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45:18Z</dcterms:created>
  <dc:creator>install</dc:creator>
  <dc:description/>
  <dc:language>en-US</dc:language>
  <cp:lastModifiedBy>install</cp:lastModifiedBy>
  <dcterms:modified xsi:type="dcterms:W3CDTF">2010-03-22T16:07:23Z</dcterms:modified>
  <cp:revision>12</cp:revision>
  <dc:subject/>
  <dc:title>Slide 1</dc:title>
</cp:coreProperties>
</file>